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F4ECE-B9E7-4187-BC0E-3D3ED673C3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B78BF-E262-4531-934A-B68B1EA6D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6A8CE-60E0-4D71-AE8B-CC96961F42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44A0D-97C3-4F31-97AA-0AACAA897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5F798-40AE-4019-B46C-32B7093D2B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F3B4E-D7E4-4295-92A6-86E546FB5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67891-7E7F-4A76-946E-DFB3C0A84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F9087-6095-4810-8DA9-CB2276EBE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DB278-5866-4B03-B52F-8C238F0F0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004559-065D-4A11-A123-216A3CE7E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01C36-D289-476F-9953-9860AD432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B2BD0-664C-409B-A3E9-39E043BC7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5A7E9-FB2B-40EE-A0C2-D82060718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05F1F-6572-4A44-A628-F96E2C7BB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2BBD3-F5E6-49E0-965D-E2C4D302D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96D138-2C57-44C9-BF82-B251FF1F1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62D064-087E-4DC0-AFA0-99ED78A5F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0D7A9A-6B55-44E6-8655-68451F3C78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19186A-F9E4-418B-AF70-50F40305B4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28AC7F-5EBB-41A9-A44E-7095EC675C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01D6A3-400B-4166-8694-378F817DD0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A518E3-0C77-41C3-B1E2-07F14CEFC9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1465B-9A03-4F42-BE03-627775E4A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35CAE2-554F-40FD-B693-D00BA2552E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B8AE07-985F-46AE-8690-8CD543FE7B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8F7666-7F80-4995-B67C-8955DE29B6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20C1DD-344A-4090-80B5-35B3655450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9D7171-C063-482E-9E49-381B0750FF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2AB51D-2845-4366-B3F5-EBB30D4E95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C408C6-7298-4FFD-9CF3-74706C73AE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42725F-EFE4-4A5F-9877-CDF9F24663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1C7069-B4BF-457B-8C42-883AC4495E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E6643F-EE75-4319-BDFF-E134CA33B7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197B6-AF55-49C9-AD44-09D7C575B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9A6D76-4940-47AC-9C97-613D5FFA8D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E04B3E-C3BB-49B6-A89D-A8914B7041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44C49C-E973-43ED-A25E-D58471092A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61C6AE-971D-48FC-A467-008A074B8D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AA94E2-24F7-4FE6-BD9A-7091013AD8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E0FA10-38A6-4DE0-A011-07EEC74686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F6290A-0B22-4D86-9FF2-19100BBCB4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F22506-E2B1-4D8E-8864-C80A950FF8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98F727-3BB9-4E03-9365-3A7C3387B38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5A374-5BEC-4854-8389-3065A2DAD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60ACC-7410-49F2-8BFE-DDA62E60A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5735E-BF86-4570-9D97-85F9FD1B6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EDC06-AC25-4A46-9E97-227FDA990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7380D-B6C8-4BBF-A605-28BAD90EF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2992-23B7-4BE6-938B-8F0033366502}" type="datetime">
              <a:rPr b="0" lang="en-US" sz="1200" spc="-1" strike="noStrike">
                <a:solidFill>
                  <a:srgbClr val="045c75"/>
                </a:solidFill>
                <a:latin typeface="Arial"/>
              </a:rPr>
              <a:t>07/28/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9B013-FFA9-418F-87F0-CF6F8347438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AA366-9E36-473A-BC54-27469606E8C5}" type="datetime">
              <a:rPr b="0" lang="en-US" sz="1200" spc="-1" strike="noStrike">
                <a:solidFill>
                  <a:srgbClr val="d1eaee"/>
                </a:solidFill>
                <a:latin typeface="Arial"/>
              </a:rPr>
              <a:t>07/28/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D974-866C-4699-A58C-825DD24C4253}"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08F50-E38D-492E-8670-BF0EC0E09E9C}" type="datetime">
              <a:rPr b="0" lang="en-US" sz="1200" spc="-1" strike="noStrike">
                <a:solidFill>
                  <a:srgbClr val="d1eaee"/>
                </a:solidFill>
                <a:latin typeface="Arial"/>
              </a:rPr>
              <a:t>07/28/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4AE3-DAE4-4B3D-B2A8-E2F39880E62D}"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C5441-44E3-4B65-BD92-41E3AFA37EC0}" type="datetime">
              <a:rPr b="0" lang="en-US" sz="1200" spc="-1" strike="noStrike">
                <a:solidFill>
                  <a:srgbClr val="045c75"/>
                </a:solidFill>
                <a:latin typeface="Arial"/>
              </a:rPr>
              <a:t>07/28/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E28EF-9B63-4CBA-83E5-0D394212EF6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76050-20FB-4E5D-B99E-1713DA998B2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14C8-EC0A-410B-A1D8-B3F7EAEE468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197A2-E807-438B-8977-B23C668E712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7CEAD-B7DF-478A-9CD4-1305C2B985F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6CCEC-B1D2-4117-9C6A-87F2C4F7F8F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18809-2DCA-484B-ACF7-485409C6C6B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850A-AAD2-4C2D-89E0-3D172D6EC08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9D88-B490-4CE6-A8F4-D62B8611309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92BF9-0193-489F-8C0D-6176E1268C65}"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1854-BDB4-458A-97B8-3AB653407418}"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788D-9910-4246-A3BC-737E8223376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8B101-572F-4ABB-81A6-C4DD0BC5F57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C587-B477-4E27-9C22-C63D14DCCE8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